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E4B-00B6-427E-9E8E-5AAE4255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118-89C0-47B7-91AB-C5DF1F57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8D42-E531-4031-84C7-53BE6863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656-D5F4-4B23-9BD7-DDAD7A72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2D3-13D6-4389-B44A-4E10BCD0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462-7A3C-4F04-8D0D-1981443D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D23-5130-47DB-A29A-DBC935E3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E6E-B2FE-44F2-A8B8-CE016C1A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934-5E50-423D-A4A8-01C0EEDC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959-E98C-4AB5-9099-EACE11FB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5E3-005C-4C36-83BE-E75159FF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9B1-E543-4773-A988-5CE77F43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23DB-C473-4D35-84AF-1D0E74554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06520" y="4513320"/>
            <a:ext cx="8704080" cy="19335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1785960" y="600084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Гагарин и С.П. Короле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642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508720" y="1916280"/>
            <a:ext cx="309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женщина-космонавт  Валентина Тере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26000" cy="4280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428840" y="55008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Ю.Гагарин и В. Терешк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23640" y="428760"/>
            <a:ext cx="83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женщина, вышедшая в открытый 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ветлана Савиц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614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43400" cy="5359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857840" y="642960"/>
            <a:ext cx="3857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ГАРИН, ЮРИЙ АЛЕКСЕЕВИЧ (1934–1968), советский летчик-космонавт, первый человек, совершивший орбитальный космический по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72000" cy="464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2933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216400" y="522936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 Гагарин и его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95280" y="2858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марта 1934 г. в селе Клушино ( Смоленская область) родился Ю.А. Гаг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76640" cy="344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429000" cy="378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85840" y="457200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ратовский индустриальный техн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219640" y="9079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гарин - курсант  Саратовского аэрокл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684360" y="155736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апреля 1961 Ю.А.Гагарин на космическом корабле «Восток», созданном в опытно-конструкторском бюро С.П.Королева, стартовал с космодрома Байконур и совершил первый космический полет, облетев земной шар за 108 минут и благополучно вернувшись на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72320" cy="5791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приземления  Ю.А. Гаг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4:40:37Z</dcterms:created>
  <dc:creator>HardyWf</dc:creator>
  <dc:description/>
  <dc:language>en-US</dc:language>
  <cp:lastModifiedBy>Name</cp:lastModifiedBy>
  <dcterms:modified xsi:type="dcterms:W3CDTF">2010-09-23T12:06:21Z</dcterms:modified>
  <cp:revision>3</cp:revision>
  <dc:subject/>
  <dc:title>Первые космонав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6000000000001024140</vt:lpwstr>
  </property>
</Properties>
</file>